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AC6-B78F-4E72-BCA7-C6571139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C21-352B-4F58-AEE9-E934E83A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BCA-48B1-4F7F-B237-10FBB5CA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F14-E4CF-4E08-A26C-41F443E8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A66F-F43B-48CE-B311-CFD22D8F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979-E380-4C99-BBF6-1A2CE1A4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3F2-208D-4C8B-B53E-BBE476F6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5D8-891B-4A14-9568-3BE54515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65B-09D7-4EEB-8DE1-48442172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77B0-FB66-4E84-B35A-608BD78C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8A3-641D-4200-A3A6-5BB24E2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5C8-EFE2-4BBC-AE84-52484609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8DDC-A720-469F-B7B8-E20FBA2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F920-B2DE-449B-BD07-589E465F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D91-1DDC-4BD5-B23B-CF0D35E5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274-EBBD-47C5-952D-872A8EDF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A6A8-17FF-44FB-805E-0C11B082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FE2-9870-452D-8BE9-DA50E32E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8B7-5DB8-4162-B68A-5E830900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64D-982E-4E22-97C2-277B5F1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B6C-2423-4167-99A0-16EE19A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899-71D2-4A51-A815-E3F49C7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613-8A36-42FE-950C-B9D7809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EBD-7E94-41FB-A00C-6A1CAFB9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46C5-D522-4481-83E0-4DEF7A2A8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6046-8A7D-4869-9EF2-77E4AFFC8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lideshare.net/hdurnin/glogster-with-discovery-education" TargetMode="External"/><Relationship Id="rId2" Type="http://schemas.openxmlformats.org/officeDocument/2006/relationships/hyperlink" Target="http://www.slideshare.net/haleehan/glogster-poster-tutoria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to Create a Glogster Pos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38120"/>
            <a:ext cx="599436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.glogster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Text Fea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5625" t="38281" r="64376" b="26564"/>
          <a:stretch/>
        </p:blipFill>
        <p:spPr>
          <a:xfrm>
            <a:off x="1523880" y="281952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1371600" y="1447920"/>
            <a:ext cx="23623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ther Title Options: chang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 color of the graphic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rmat text, add a link, 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effects to your text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6"/>
          <p:cNvSpPr/>
          <p:nvPr/>
        </p:nvSpPr>
        <p:spPr>
          <a:xfrm rot="16200000">
            <a:off x="2324160" y="2095200"/>
            <a:ext cx="609480" cy="990360"/>
          </a:xfrm>
          <a:custGeom>
            <a:avLst/>
            <a:gdLst>
              <a:gd name="textAreaLeft" fmla="*/ 0 w 609480"/>
              <a:gd name="textAreaRight" fmla="*/ 219960 w 6094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80880" y="2057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6705720" y="5257800"/>
            <a:ext cx="1904760" cy="1371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peat </a:t>
            </a: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Step 6 and 7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add Stickers and/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ubbles to your Glo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the Graphics Tab to add pictures to enhance your Glog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rcRect l="12987" t="32471" r="60608" b="17745"/>
          <a:stretch/>
        </p:blipFill>
        <p:spPr>
          <a:xfrm>
            <a:off x="3886200" y="266688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rcRect l="6876" t="48440" r="86252" b="26564"/>
          <a:stretch/>
        </p:blipFill>
        <p:spPr>
          <a:xfrm>
            <a:off x="2133720" y="2438280"/>
            <a:ext cx="1676160" cy="24386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1523880" y="2362320"/>
            <a:ext cx="990720" cy="3808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2819520" y="5867280"/>
            <a:ext cx="2743200" cy="5335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1447920" y="6019920"/>
            <a:ext cx="21333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hoose some graphics to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to your Glog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7010280" y="6172200"/>
            <a:ext cx="160020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11"/>
          <p:cNvSpPr/>
          <p:nvPr/>
        </p:nvSpPr>
        <p:spPr>
          <a:xfrm flipV="1">
            <a:off x="7391520" y="5790960"/>
            <a:ext cx="0" cy="2286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400800" y="1905120"/>
            <a:ext cx="10666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“x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c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7543800" y="2362320"/>
            <a:ext cx="609480" cy="76176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he Image Tab to add images to your Glog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rcRect l="6876" t="33597" r="61565" b="21093"/>
          <a:stretch/>
        </p:blipFill>
        <p:spPr>
          <a:xfrm>
            <a:off x="2057400" y="1905120"/>
            <a:ext cx="5867280" cy="3368520"/>
          </a:xfrm>
          <a:prstGeom prst="rect">
            <a:avLst/>
          </a:prstGeom>
          <a:ln w="0">
            <a:noFill/>
          </a:ln>
        </p:spPr>
      </p:pic>
      <p:sp>
        <p:nvSpPr>
          <p:cNvPr id="232" name="Line 6"/>
          <p:cNvSpPr/>
          <p:nvPr/>
        </p:nvSpPr>
        <p:spPr>
          <a:xfrm flipV="1">
            <a:off x="838080" y="2819160"/>
            <a:ext cx="1600200" cy="1522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8"/>
          <p:cNvSpPr/>
          <p:nvPr/>
        </p:nvSpPr>
        <p:spPr>
          <a:xfrm flipV="1">
            <a:off x="3276720" y="3200400"/>
            <a:ext cx="1447560" cy="28195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2514600" y="5943600"/>
            <a:ext cx="563868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pload a saved image from your computer to Glogster, then click us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You can also link or Grab images from the web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10"/>
          <p:cNvSpPr/>
          <p:nvPr/>
        </p:nvSpPr>
        <p:spPr>
          <a:xfrm flipV="1">
            <a:off x="7391520" y="5105520"/>
            <a:ext cx="0" cy="8380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 a Frame to your Imag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rcRect l="6873" t="30470" r="61252" b="17188"/>
          <a:stretch/>
        </p:blipFill>
        <p:spPr>
          <a:xfrm>
            <a:off x="2819520" y="1828800"/>
            <a:ext cx="5562360" cy="3654360"/>
          </a:xfrm>
          <a:prstGeom prst="rect">
            <a:avLst/>
          </a:prstGeom>
          <a:ln w="0">
            <a:noFill/>
          </a:ln>
        </p:spPr>
      </p:pic>
      <p:sp>
        <p:nvSpPr>
          <p:cNvPr id="239" name="Line 6"/>
          <p:cNvSpPr/>
          <p:nvPr/>
        </p:nvSpPr>
        <p:spPr>
          <a:xfrm>
            <a:off x="1523880" y="1828800"/>
            <a:ext cx="3581640" cy="7621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010280" y="6172200"/>
            <a:ext cx="160020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8"/>
          <p:cNvSpPr/>
          <p:nvPr/>
        </p:nvSpPr>
        <p:spPr>
          <a:xfrm flipH="1" flipV="1">
            <a:off x="7543800" y="5029200"/>
            <a:ext cx="380880" cy="914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2057400" y="6095880"/>
            <a:ext cx="35812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n Image and choose a frame style f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your imag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4114800" y="4876560"/>
            <a:ext cx="1371600" cy="11430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he Video Tab add videos to your Glog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rcRect l="6876" t="32814" r="61252" b="19532"/>
          <a:stretch/>
        </p:blipFill>
        <p:spPr>
          <a:xfrm>
            <a:off x="3048120" y="2819520"/>
            <a:ext cx="4495680" cy="26874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6"/>
          <p:cNvSpPr/>
          <p:nvPr/>
        </p:nvSpPr>
        <p:spPr>
          <a:xfrm>
            <a:off x="2514600" y="5943600"/>
            <a:ext cx="563868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pload a saved video from your computer to Glogster, then click us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You can also Link or Grab Video from the web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7"/>
          <p:cNvSpPr/>
          <p:nvPr/>
        </p:nvSpPr>
        <p:spPr>
          <a:xfrm flipV="1">
            <a:off x="3505320" y="3962160"/>
            <a:ext cx="1295280" cy="205740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04920" y="1981080"/>
            <a:ext cx="266688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SchoolTube Video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find awesome SchoolT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ide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971800" y="2666880"/>
            <a:ext cx="1143000" cy="914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5105520" y="2590920"/>
            <a:ext cx="1904760" cy="22096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5105520" y="2590920"/>
            <a:ext cx="0" cy="3808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12"/>
          <p:cNvSpPr/>
          <p:nvPr/>
        </p:nvSpPr>
        <p:spPr>
          <a:xfrm flipH="1">
            <a:off x="7543440" y="5105520"/>
            <a:ext cx="609480" cy="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3962520" y="1828800"/>
            <a:ext cx="190476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Players Ta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add a cool play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on sound to add music or your voice to your Gl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rcRect l="6876" t="35937" r="59689" b="19532"/>
          <a:stretch/>
        </p:blipFill>
        <p:spPr>
          <a:xfrm>
            <a:off x="228600" y="1752480"/>
            <a:ext cx="5943600" cy="31654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5"/>
          <p:cNvSpPr/>
          <p:nvPr/>
        </p:nvSpPr>
        <p:spPr>
          <a:xfrm>
            <a:off x="1752480" y="5562720"/>
            <a:ext cx="5639040" cy="7617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pload a saved song from your computer to Glogster, then click us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You can also Link or Grab Video from the web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6"/>
          <p:cNvSpPr/>
          <p:nvPr/>
        </p:nvSpPr>
        <p:spPr>
          <a:xfrm flipH="1" flipV="1">
            <a:off x="2971440" y="2971440"/>
            <a:ext cx="1219320" cy="24382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7"/>
          <p:cNvSpPr/>
          <p:nvPr/>
        </p:nvSpPr>
        <p:spPr>
          <a:xfrm flipH="1" flipV="1">
            <a:off x="5867280" y="4800240"/>
            <a:ext cx="45720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705720" y="2362320"/>
            <a:ext cx="190476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Players Ta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add a cool play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9"/>
          <p:cNvSpPr/>
          <p:nvPr/>
        </p:nvSpPr>
        <p:spPr>
          <a:xfrm flipH="1">
            <a:off x="5715000" y="2895480"/>
            <a:ext cx="990720" cy="106704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ve or Publish Your G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rcRect l="12188" t="36720" r="63125" b="20315"/>
          <a:stretch/>
        </p:blipFill>
        <p:spPr>
          <a:xfrm>
            <a:off x="2057400" y="1981080"/>
            <a:ext cx="6019920" cy="4191120"/>
          </a:xfrm>
          <a:prstGeom prst="rect">
            <a:avLst/>
          </a:prstGeom>
          <a:ln w="0">
            <a:noFill/>
          </a:ln>
        </p:spPr>
      </p:pic>
      <p:sp>
        <p:nvSpPr>
          <p:cNvPr id="266" name="Line 6"/>
          <p:cNvSpPr/>
          <p:nvPr/>
        </p:nvSpPr>
        <p:spPr>
          <a:xfrm flipV="1">
            <a:off x="1066680" y="2743200"/>
            <a:ext cx="1219320" cy="7632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447920" y="5257800"/>
            <a:ext cx="1066680" cy="38088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8"/>
          <p:cNvSpPr/>
          <p:nvPr/>
        </p:nvSpPr>
        <p:spPr>
          <a:xfrm flipH="1" flipV="1">
            <a:off x="7772040" y="5715000"/>
            <a:ext cx="762120" cy="83808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9"/>
          <p:cNvSpPr/>
          <p:nvPr/>
        </p:nvSpPr>
        <p:spPr>
          <a:xfrm flipH="1">
            <a:off x="7467120" y="4495680"/>
            <a:ext cx="762120" cy="45720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152280" y="2819520"/>
            <a:ext cx="9144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am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457200" y="4876920"/>
            <a:ext cx="9144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ag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2"/>
          <p:cNvSpPr/>
          <p:nvPr/>
        </p:nvSpPr>
        <p:spPr>
          <a:xfrm flipV="1">
            <a:off x="1295280" y="4419720"/>
            <a:ext cx="914400" cy="30456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3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1523880" y="1523880"/>
            <a:ext cx="51768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lides used in this presentation can be found online a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slideshare.net/hdurnin/glogster-with-discovery-edu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www.slideshare.net/haleehan/glogster-poster-tutor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al Thanks to Ms. Irv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 It A 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proceed to the computer la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ng all your items with yo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forget your log-in/password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glog on the topic of your cho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ggestions: Abe Lincoln, favorite sa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password and nickname are valid until M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begin: E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u.glogster.c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n the URL address line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edu.glogster.com/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52280" y="152280"/>
            <a:ext cx="106704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-in to Glogster using the Nickname and Password Provided to You – change  the nickname and password to something easier to remember whenever you are ready to do s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1184" t="19395" r="50855" b="21407"/>
          <a:stretch/>
        </p:blipFill>
        <p:spPr>
          <a:xfrm>
            <a:off x="1986120" y="2514600"/>
            <a:ext cx="6172200" cy="304812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V="1">
            <a:off x="6858000" y="2362320"/>
            <a:ext cx="990720" cy="1828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0958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52280" y="152280"/>
            <a:ext cx="106704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3886200" y="3352680"/>
            <a:ext cx="457200" cy="533520"/>
          </a:xfrm>
          <a:custGeom>
            <a:avLst/>
            <a:gdLst>
              <a:gd name="textAreaLeft" fmla="*/ 0 w 457200"/>
              <a:gd name="textAreaRight" fmla="*/ 164880 w 45720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85"/>
                </a:lnTo>
                <a:cubicBezTo>
                  <a:pt x="10800" y="10085"/>
                  <a:pt x="16200" y="10985"/>
                  <a:pt x="21600" y="10985"/>
                </a:cubicBezTo>
                <a:cubicBezTo>
                  <a:pt x="16200" y="10985"/>
                  <a:pt x="10800" y="11885"/>
                  <a:pt x="10800" y="1278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495680" y="3162240"/>
            <a:ext cx="175284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ter your user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nd Pass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log-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3505320" y="3348000"/>
            <a:ext cx="1218960" cy="7632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ate a New G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12812" t="33597" r="72279" b="39422"/>
          <a:stretch/>
        </p:blipFill>
        <p:spPr>
          <a:xfrm>
            <a:off x="2590920" y="2590920"/>
            <a:ext cx="4419360" cy="3200400"/>
          </a:xfrm>
          <a:prstGeom prst="rect">
            <a:avLst/>
          </a:prstGeom>
          <a:ln w="0">
            <a:noFill/>
          </a:ln>
        </p:spPr>
      </p:pic>
      <p:sp>
        <p:nvSpPr>
          <p:cNvPr id="165" name="Line 5"/>
          <p:cNvSpPr/>
          <p:nvPr/>
        </p:nvSpPr>
        <p:spPr>
          <a:xfrm>
            <a:off x="1447920" y="350532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28600" y="2514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Click Here to Start a new G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52280" y="152280"/>
            <a:ext cx="99072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the “Magnet Tool” to create your Glo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6250" t="40625" r="76877" b="22659"/>
          <a:stretch/>
        </p:blipFill>
        <p:spPr>
          <a:xfrm>
            <a:off x="2438280" y="1981080"/>
            <a:ext cx="5029200" cy="43768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>
            <a:off x="1600200" y="2590920"/>
            <a:ext cx="1143000" cy="1143000"/>
          </a:xfrm>
          <a:prstGeom prst="line">
            <a:avLst/>
          </a:prstGeom>
          <a:ln w="572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2133720"/>
            <a:ext cx="144756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gnet To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9907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ete default grap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rcRect l="6876" t="32031" r="66251" b="21093"/>
          <a:stretch/>
        </p:blipFill>
        <p:spPr>
          <a:xfrm>
            <a:off x="2057400" y="1981080"/>
            <a:ext cx="655308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Line 7"/>
          <p:cNvSpPr/>
          <p:nvPr/>
        </p:nvSpPr>
        <p:spPr>
          <a:xfrm>
            <a:off x="1523880" y="2057400"/>
            <a:ext cx="3810240" cy="228600"/>
          </a:xfrm>
          <a:prstGeom prst="line">
            <a:avLst/>
          </a:prstGeom>
          <a:ln w="572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4920" y="1676520"/>
            <a:ext cx="1523880" cy="2286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th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cture, th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the pink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sh ca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con abov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ach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cture t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ete graphi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52280" y="152280"/>
            <a:ext cx="99072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on the “Wall Tab” to choose a backgrou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rcRect l="6563" t="27343" r="60314" b="28126"/>
          <a:stretch/>
        </p:blipFill>
        <p:spPr>
          <a:xfrm>
            <a:off x="3581280" y="2057400"/>
            <a:ext cx="5105520" cy="3406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rcRect l="6876" t="48440" r="86252" b="26564"/>
          <a:stretch/>
        </p:blipFill>
        <p:spPr>
          <a:xfrm>
            <a:off x="1828800" y="17524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181" name="Line 6"/>
          <p:cNvSpPr/>
          <p:nvPr/>
        </p:nvSpPr>
        <p:spPr>
          <a:xfrm>
            <a:off x="380880" y="2133720"/>
            <a:ext cx="1676520" cy="1752480"/>
          </a:xfrm>
          <a:prstGeom prst="line">
            <a:avLst/>
          </a:prstGeom>
          <a:ln w="572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380880" y="4648320"/>
            <a:ext cx="34290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se the Gallery or upload your own pi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3581280" y="4114440"/>
            <a:ext cx="106704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1"/>
          <p:cNvSpPr/>
          <p:nvPr/>
        </p:nvSpPr>
        <p:spPr>
          <a:xfrm flipV="1">
            <a:off x="6858000" y="5029200"/>
            <a:ext cx="838080" cy="53352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257800" y="5257800"/>
            <a:ext cx="160020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8001000" y="1676520"/>
            <a:ext cx="380880" cy="38088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7238880" y="1295280"/>
            <a:ext cx="106704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“x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c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152280" y="152280"/>
            <a:ext cx="91440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he Text Tab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Add Titles, Stickers, and Bubbles to your Glo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6876" t="48440" r="86252" b="26564"/>
          <a:stretch/>
        </p:blipFill>
        <p:spPr>
          <a:xfrm>
            <a:off x="914400" y="19810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191" name="Line 7"/>
          <p:cNvSpPr/>
          <p:nvPr/>
        </p:nvSpPr>
        <p:spPr>
          <a:xfrm>
            <a:off x="228600" y="1981080"/>
            <a:ext cx="990720" cy="5335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2"/>
          <a:srcRect l="6876" t="25782" r="60625" b="31253"/>
          <a:stretch/>
        </p:blipFill>
        <p:spPr>
          <a:xfrm>
            <a:off x="2819520" y="2057400"/>
            <a:ext cx="5638680" cy="29811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4724280" y="5791320"/>
            <a:ext cx="160020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Use It 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dd it to y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o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172200" y="4724280"/>
            <a:ext cx="1523880" cy="99072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6858000" y="1523880"/>
            <a:ext cx="10666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“x’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 c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8001000" y="182880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152280" y="5029200"/>
            <a:ext cx="320040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n Titles and choose a style f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your titl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14"/>
          <p:cNvSpPr/>
          <p:nvPr/>
        </p:nvSpPr>
        <p:spPr>
          <a:xfrm flipV="1">
            <a:off x="3124080" y="2895120"/>
            <a:ext cx="1067040" cy="2057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16"/>
          <p:cNvSpPr/>
          <p:nvPr/>
        </p:nvSpPr>
        <p:spPr>
          <a:xfrm flipV="1">
            <a:off x="3276720" y="4419360"/>
            <a:ext cx="205740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Edit to change the Tit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rcRect l="15449" t="38281" r="64064" b="25003"/>
          <a:stretch/>
        </p:blipFill>
        <p:spPr>
          <a:xfrm>
            <a:off x="457200" y="1905120"/>
            <a:ext cx="3276720" cy="2347920"/>
          </a:xfrm>
          <a:prstGeom prst="rect">
            <a:avLst/>
          </a:prstGeom>
          <a:ln w="0">
            <a:noFill/>
          </a:ln>
        </p:spPr>
      </p:pic>
      <p:sp>
        <p:nvSpPr>
          <p:cNvPr id="203" name="Line 7"/>
          <p:cNvSpPr/>
          <p:nvPr/>
        </p:nvSpPr>
        <p:spPr>
          <a:xfrm>
            <a:off x="380880" y="1219320"/>
            <a:ext cx="304920" cy="6858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2"/>
          <a:srcRect l="15625" t="38281" r="64376" b="26564"/>
          <a:stretch/>
        </p:blipFill>
        <p:spPr>
          <a:xfrm>
            <a:off x="4114800" y="312408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2286000" y="6095880"/>
            <a:ext cx="12952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hange t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3581280" y="4800600"/>
            <a:ext cx="1752840" cy="13716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15"/>
          <p:cNvSpPr/>
          <p:nvPr/>
        </p:nvSpPr>
        <p:spPr>
          <a:xfrm flipH="1">
            <a:off x="5333760" y="2362320"/>
            <a:ext cx="1143000" cy="914400"/>
          </a:xfrm>
          <a:prstGeom prst="line">
            <a:avLst/>
          </a:prstGeom>
          <a:ln w="3816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6477120" y="2057400"/>
            <a:ext cx="1295280" cy="457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here 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rmat t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17"/>
          <p:cNvSpPr/>
          <p:nvPr/>
        </p:nvSpPr>
        <p:spPr>
          <a:xfrm flipH="1">
            <a:off x="4495320" y="1905120"/>
            <a:ext cx="381240" cy="1218960"/>
          </a:xfrm>
          <a:prstGeom prst="line">
            <a:avLst/>
          </a:prstGeom>
          <a:ln w="28440">
            <a:solidFill>
              <a:srgbClr val="703d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4495680" y="1371600"/>
            <a:ext cx="1524240" cy="5335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lick Ok t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pply the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52280" y="152280"/>
            <a:ext cx="914400" cy="3812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3:38:46Z</dcterms:created>
  <dc:creator>IrvingNa</dc:creator>
  <dc:description/>
  <dc:language>en-US</dc:language>
  <cp:lastModifiedBy>Jackie Osterhout</cp:lastModifiedBy>
  <cp:lastPrinted>2012-02-13T00:52:45Z</cp:lastPrinted>
  <dcterms:modified xsi:type="dcterms:W3CDTF">2012-02-15T17:11:53Z</dcterms:modified>
  <cp:revision>22</cp:revision>
  <dc:subject/>
  <dc:title>How to Create a Glogster Poster</dc:title>
</cp:coreProperties>
</file>